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F44-A9F4-439C-92D6-AA314C72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745-DF65-4E1E-B6FD-7D35337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415-D469-48B2-9091-111854A4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B08-AD76-4F49-BDE4-DADB9382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451-7AC3-4B26-8EA4-9B24FB3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7CA-7E0A-4EB4-A05D-D27732A0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4A8-BA6F-483C-83BC-62381234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087-BC57-4FB5-89D8-259C9A62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707-95CE-4B4B-974F-DDCCB3E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960-E702-4643-ABE0-1E62840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1E3-B194-4CF9-8517-43389D1A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97D-15DC-43B1-926F-C5613D52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3DF0-D30B-4FE2-AFC6-F160FF1E4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Итоговая сес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27-28 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аспи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19160"/>
          <a:ext cx="8785440" cy="54388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19280"/>
                <a:gridCol w="576360"/>
                <a:gridCol w="647640"/>
              </a:tblGrid>
              <a:tr h="65232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75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спределение аспирантов, обучающихся за счет средств Ф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 отраслям науки и специальностя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1268280"/>
          <a:ext cx="8774280" cy="5037120"/>
        </p:xfrm>
        <a:graphic>
          <a:graphicData uri="http://schemas.openxmlformats.org/drawingml/2006/table">
            <a:tbl>
              <a:tblPr/>
              <a:tblGrid>
                <a:gridCol w="3382920"/>
                <a:gridCol w="660600"/>
                <a:gridCol w="662040"/>
                <a:gridCol w="734760"/>
                <a:gridCol w="735120"/>
                <a:gridCol w="662040"/>
                <a:gridCol w="662040"/>
                <a:gridCol w="660240"/>
                <a:gridCol w="614520"/>
              </a:tblGrid>
              <a:tr h="403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а и управление народным хозяй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науки о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докто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97000"/>
          <a:ext cx="8229600" cy="530532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852480"/>
                <a:gridCol w="134604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65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фективность деятель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сертационных совет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413000"/>
          <a:ext cx="8280000" cy="4925880"/>
        </p:xfrm>
        <a:graphic>
          <a:graphicData uri="http://schemas.openxmlformats.org/drawingml/2006/table">
            <a:tbl>
              <a:tblPr/>
              <a:tblGrid>
                <a:gridCol w="2426040"/>
                <a:gridCol w="2006280"/>
                <a:gridCol w="1839960"/>
                <a:gridCol w="2007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информатика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защищенных диссертаций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доктор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кандидат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в выставк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онференциях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Выста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6 международ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Экспонат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ленные на выставка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ферен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2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азе в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Премии, дипломы, награ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дательская деятельность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0920" y="836640"/>
          <a:ext cx="5040360" cy="56880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анн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енарное заседание</a:t>
            </a:r>
            <a:br>
              <a:rPr sz="1400"/>
            </a:b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27 января 2009 г., Актовый зал РГГ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ительное слов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тор 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ректор по НР,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увлажнения бассейнов больших озер в зоне гумидного клим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Мякише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характеристик атмосферного аэрозоля по данным оптическ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рени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Егоров А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электронного контроля знаний студе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мин Е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динамики и прогноз показателя инновационной активности в регионе на примере Санкт-Петербурга и Ленинград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Абанников В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действий по Балтийскому морю: проблемы и перспек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Фрумин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ный анализ морского потенциала приморских реги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Гогоберидзе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выполнения научных исследований в сфере экологической безопасности в современных условиях (на примере Института геоэкологического инжиниринга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Дикинис А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700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Нау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научные на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549360"/>
          <a:ext cx="8207280" cy="5761080"/>
        </p:xfrm>
        <a:graphic>
          <a:graphicData uri="http://schemas.openxmlformats.org/drawingml/2006/table">
            <a:tbl>
              <a:tblPr/>
              <a:tblGrid>
                <a:gridCol w="439560"/>
                <a:gridCol w="6514920"/>
                <a:gridCol w="1037160"/>
                <a:gridCol w="2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количеству и объем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268280"/>
          <a:ext cx="8856720" cy="4616640"/>
        </p:xfrm>
        <a:graphic>
          <a:graphicData uri="http://schemas.openxmlformats.org/drawingml/2006/table">
            <a:tbl>
              <a:tblPr/>
              <a:tblGrid>
                <a:gridCol w="1511280"/>
                <a:gridCol w="474480"/>
                <a:gridCol w="893880"/>
                <a:gridCol w="504720"/>
                <a:gridCol w="935280"/>
                <a:gridCol w="504720"/>
                <a:gridCol w="934920"/>
                <a:gridCol w="576360"/>
                <a:gridCol w="1008000"/>
                <a:gridCol w="576360"/>
                <a:gridCol w="936720"/>
              </a:tblGrid>
              <a:tr h="28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7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5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57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на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2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8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9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7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9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1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77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 45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 8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81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893080" y="2276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93080" y="263700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93080" y="3068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3080" y="3500280"/>
            <a:ext cx="250920" cy="287640"/>
          </a:xfrm>
          <a:prstGeom prst="upArrow">
            <a:avLst>
              <a:gd name="adj1" fmla="val 50000"/>
              <a:gd name="adj2" fmla="val 2865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20000" y="3933720"/>
            <a:ext cx="324000" cy="2160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4365720"/>
            <a:ext cx="324000" cy="21564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472428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93080" y="522936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0000" y="5734080"/>
            <a:ext cx="324000" cy="358920"/>
          </a:xfrm>
          <a:prstGeom prst="upArrow">
            <a:avLst>
              <a:gd name="adj1" fmla="val 50000"/>
              <a:gd name="adj2" fmla="val 2769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5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8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9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500"/>
                            </p:stCondLst>
                            <p:childTnLst>
                              <p:par>
                                <p:cTn id="9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66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факультет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пери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907920"/>
          <a:ext cx="8858160" cy="4807080"/>
        </p:xfrm>
        <a:graphic>
          <a:graphicData uri="http://schemas.openxmlformats.org/drawingml/2006/table">
            <a:tbl>
              <a:tblPr/>
              <a:tblGrid>
                <a:gridCol w="1801800"/>
                <a:gridCol w="431640"/>
                <a:gridCol w="790920"/>
                <a:gridCol w="433080"/>
                <a:gridCol w="863640"/>
                <a:gridCol w="503280"/>
                <a:gridCol w="792360"/>
                <a:gridCol w="576000"/>
                <a:gridCol w="1008360"/>
                <a:gridCol w="576000"/>
                <a:gridCol w="108108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5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68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9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0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66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68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785080" y="5013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83640" y="24922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39280" y="5589720"/>
            <a:ext cx="5047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2060640"/>
            <a:ext cx="324000" cy="288720"/>
          </a:xfrm>
          <a:prstGeom prst="rightArrow">
            <a:avLst>
              <a:gd name="adj1" fmla="val 50000"/>
              <a:gd name="adj2" fmla="val 28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85080" y="4005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83640" y="4581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85080" y="335772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83640" y="285264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едения по НИР за 2008 го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по факультетам РГГМ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1125360"/>
          <a:ext cx="9074160" cy="497376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289080"/>
                <a:gridCol w="9586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5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 5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 2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 4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 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50"/>
                            </p:stCondLst>
                            <p:childTnLst>
                              <p:par>
                                <p:cTn id="1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341360"/>
          <a:ext cx="8785440" cy="467352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4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7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5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81160"/>
          <a:ext cx="8785440" cy="56181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1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Морской инстит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геоэкологическ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жинирин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1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cnit</cp:lastModifiedBy>
  <dcterms:modified xsi:type="dcterms:W3CDTF">2009-01-27T15:45:49Z</dcterms:modified>
  <cp:revision>364</cp:revision>
  <dc:subject/>
  <dc:title>Итоговая сессия Ученого совета РГГМУ</dc:title>
</cp:coreProperties>
</file>